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D817-47B4-4C48-84CE-9D5C126F60F7}" type="datetime">
              <a:rPr b="0" lang="en-US" sz="1200" spc="-1" strike="noStrike">
                <a:solidFill>
                  <a:srgbClr val="eeece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5F25-6534-4839-8584-497C39F30E32}" type="slidenum">
              <a:rPr b="0" lang="en-GB" sz="12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rst steps of FO's: acknowledge (recognize) the various dimensions of family farming, its utility (economic, social, environmental, cultural) to fight against a negative image (a "nobody",jobless), to convince members of FO's they can be proud to be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was also necessary was to analyze and understand the concept: for instance, poverty. We were not poor at the independence, we became with external misleading prescriptions and wrong national leadershi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have to constantly battle against bias, bad conceptions and prescriptions: for instance, we think that competitiveness is only a part of the solution (some models overemphasized this iss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ow we have some successes: we gained our autonomy and maintained it. We are part of the policy dialogue but watch out: the networking from local to continental is also important but; don't be mistaken: there are a lot of "virus" in every scheme that we have to be conscious of. We have access to some resour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bout the ECD cooperation: impossible to qualify it in one word: part of the solution and part of the problem. Some good initiatives that make our own process possible/ We are asking not only resources but more flexibility constant dialo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30E-4119-4ABE-A0BF-D2A853B4C621}" type="slidenum">
              <a:rPr b="0" lang="en-GB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3D6-80E7-4A73-841E-7AA20AF7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D63-7DBB-496B-980D-14D8B87D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88E-E7AA-4F68-B772-BC0E2FC5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AC2-45A2-4B44-9071-4DE4853A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1095-FB35-4EE5-ACAE-1833AA68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B12-E3AE-41B4-8BB3-A573E0B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A403-F9C4-436A-95F2-F24C8CF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5B8F-B7B0-41F9-89C9-9F12DF7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E357-C078-4F1E-9020-291700BF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3441-53EB-443B-BDB2-F0761670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FDFA-9D12-475C-AEFB-9EADE18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384-45B9-4C8E-A967-1C95352F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C8D-DB7B-4CDB-AA36-E5563AB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9B4B-C061-404A-B347-D817D2C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059E-7C67-46A7-A82E-BABEEEA1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BEF-8196-42A9-AFC2-8D69D324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0901-D5AD-4045-877D-06FCB6F7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B63-1EAD-4581-BF8E-889D45DA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7E2-6B07-4CC3-BABF-491311CB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F71-70C9-4638-A522-77B4ACB0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5D2-3632-4DFF-86E2-5FA0C74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AD6-07F9-47D4-8FC6-C59C96C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935-E1DD-4B9A-B32D-2E435E7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CE3-0941-4A1E-B024-B354A736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647A-4DD0-4D6D-A4F8-7588EA50AFFE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9F7D-03B3-424C-868D-56DD5952ABDF}" type="slidenum">
              <a:rPr b="0" lang="en-GB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Hot Topics in Agri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russels, 12 to 14 Jul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upporting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Role of FOs and EC suppor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Wim Olthof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as service providers, advocacy and development partn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irect (EDF) or through with co-financiers (CTA, IFAD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FAD: Support to FOs in Africa (5 RFOs and 36 NF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GRICORD: Farmers Fighting Poverty (FFT) (Member States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View from the ground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Mamadou Cissokho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cknowledge family farming – recognise its role in agricultural development – Pillar of the econom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amily farming as a profession – not a baseline; more production for the market is not the only direction for developm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increasingly recognised at the plicy ta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need direct link / dialogue to DPs; support to FOs not via 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upporting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FOs in Ivory Coast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 – Yves Gille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Huge agriculture potential: based on Commodity Cha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Os – many and varied – linked to commoditi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abling environment: legal frame yes – but not enforced; G creams off the production and trade and interferes with F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Need for more professional, autonomous, integrated FO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Representativeness: No FO represents ALL farmers – do not confuse with legitimacy!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Role: Country ownership is NOT government ownership: FOs have to be part of the pack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Direct support by DPs: Not a question of whether but of how! But be clear on purpose of support (advocacy, commercial) and select appropriate modes of deliver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7800-02F9-4984-B512-3A4B7A281D01}" type="slidenum">
              <a:rPr b="0" lang="en-GB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-7632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 new perspective on peasants/smallholders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van der Ploe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 holistic approach based on livelihoods as opposed to produc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ich self-suffiency, autonomy, pride play a big ro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...produces for the market without being dependent on the market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alance in production between ‘for the market’ and ‘for self’ provides protection against market turbulen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void one dimensional focus on commercialisation (as in “farming as a business, not a way of life!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ut instead focus on multi-functionality, low external input agriculture, pluri-activity, local cooperation, technical effici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Verdana"/>
              </a:rPr>
              <a:t>Agriculture as an awkward sector </a:t>
            </a:r>
            <a:r>
              <a:rPr b="0" i="1" lang="en-US" sz="1800" spc="-1" strike="noStrike">
                <a:solidFill>
                  <a:srgbClr val="103c72"/>
                </a:solidFill>
                <a:latin typeface="Verdana"/>
              </a:rPr>
              <a:t>by Steve Wigg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griculture crucial to poverty reduction because of increased incomes, increased employment, growth in local economy and reduced food pr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here are African agricultural successes! (Ghana, Burkina Fas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policy is key – good governance a pre-requisit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istinguish between simple and complex and between policy and implementation (programme)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ook at sequencing – depending on departure point / target group: step up – step out – hang i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mong the ultra-poor – invest education/health in the next gen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storalism: issues and challeng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Michele Nor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Boran in Northern Keny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aoud Tari Abkul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cy leve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the role of pastoralists (environmental profil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clude pastoralist organisations in the 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astoralists became thematic group in PRSP dialogue in Keny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sure that pastoralism is included in the policy and legal framework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n PRSP now has separate chapter on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conomic policy has a Arid and Semi Arid Lands chap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ainstream pastoralism in the overall sector policy frame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now has Nomadic Education Poli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the agriculture sector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has a Ministry of ASAL (for Northern Kenya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your partners (not just Min of Agric!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Understand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llect (jointly) information for evidence-based plan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donor coordination around the issue of  support to pastoralist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to pastoralism to be included in NIPs, CSP, sector assessments, SPSPs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appropriate EC instruments and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inancial modalities (e.g. specific proceedures instead of budget support) or thematic budget line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unit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Generate information – for policy, but also self-im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ttom up organisation and mobilis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representation skills (lobbying, advocacy, negoti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capacity and confidence (literac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and strengthen pastoral forums that make a link from local to national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free information flow (radio and mobile phone coverag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education and training tailored to pastoralists bith in delivery and cont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mali – teachers move with the group and the her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Agriculture growth and social transfer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56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ocial Transfers: overview EC support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- Hervé Busschaer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arly emphasis on food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availability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; now also focus on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acces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ifferent forms: Cash, Food, Asset transfers, Input transf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eference for cash transfers – not always possib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f Doc on Social Transfers and Food Securit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Agriculture growth &amp; social protection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Nicholas Freeland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griculture and social policies often separate:  different institutions both at country level and in DP structur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T ultimately same target group that has to graduate up the ladd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30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Therefore: instruments to be joined up in a continuous spectru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30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ynergies within instrument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13160" indent="-274320">
              <a:lnSpc>
                <a:spcPts val="30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ynergies between instruments are exploit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3520" indent="-1735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2 </a:t>
            </a:r>
            <a:br>
              <a:rPr sz="2400"/>
            </a:b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Agriculture growth and social transfer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23880"/>
            <a:ext cx="83818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ash transfers in Bangladesh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Koen Duchatea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VGDUP: 80,000 ultra-poor women; cash transfers, life skills, IGA training, asset transf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REOPA: 25,000 women in WCG; cash for rural road maintenance; savings, training, linkage with other service provider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ash transfers in Ethiopi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Eshetu Mulatu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Productive Safety Net Programme (PSNP); cash transfer and PW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ost of central Ethiopia, 7,5 M beneficiaries; 370 M € annuall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Graduation out of poverty is possible but only if: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Cash transfers are part of a pack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35480" indent="-282960">
              <a:lnSpc>
                <a:spcPts val="2798"/>
              </a:lnSpc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Different programmes are linke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78920" indent="-17892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Look at well targeted and low transactions cost instruments (E-Pa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05:24:05Z</dcterms:created>
  <dc:creator>monacro</dc:creator>
  <dc:description/>
  <dc:language>en-US</dc:language>
  <cp:lastModifiedBy>x55b078</cp:lastModifiedBy>
  <dcterms:modified xsi:type="dcterms:W3CDTF">2010-07-14T07:26:59Z</dcterms:modified>
  <cp:revision>12</cp:revision>
  <dc:subject/>
  <dc:title>Slide 1</dc:title>
</cp:coreProperties>
</file>